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BBC-76D6-42D7-8EEE-AFFA15E4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031-4F63-4DFF-ADC2-904D4DBA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204-D996-40C3-B690-F236B59E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299-7BCC-4516-A8AE-ECFBA95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34D5-B02B-48EB-9EFD-ED5DB362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7BA6-B037-4D29-8646-E57C364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C77-4378-410A-B33B-4ACF0FA7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2FFA-3559-48A5-9BF2-6B48D80C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8BCF-6659-4D44-9149-2452DE8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C122-41F5-451C-B61A-419E00DD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D341-AF88-419E-87D0-EE13AD4B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F67-78A7-40E0-8587-64D8E71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1C88-452E-4DE3-B4C5-C1F568F7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95B0-D6D5-4B41-909D-B3CA0AE5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19C5-B29F-4F92-AFE0-ECDAF47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AF81-A4AF-4417-83D4-4ADD747E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A62F-9770-4BEA-85FA-3DAC5172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367A-0037-4F41-9DD5-12F0CFC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FA9-2D61-430E-9C51-2158E04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677-DD1C-41FD-A85A-AA208D3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F68-2233-4507-8E1E-280E7C7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B49-1E5C-4EFD-84C4-69CBD1B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FB4-C0AC-4DAE-950F-C5B47F3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294-296B-4FEA-927B-CFAEDE58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A677-3C43-48F9-ABDE-D90D6FB0C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92B1-4731-4A55-9A37-41A7C1199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Equation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4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is one on your 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+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42 #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rational equations in one variable algebra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fference between expressions and equations, as well as the different ways to solve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ation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rational expressions a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s vs.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ressi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quati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rational equations: Clearing Equations of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both sides by the LCD to clear the equation of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the given variable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solutions in the origin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ifference between expressions and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rational equations: Clearing Equations of Fraction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LCD of 3, 5, and 1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oth sides by 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0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5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 = 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x=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t 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+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20:40:30Z</dcterms:created>
  <dc:creator>nuhs</dc:creator>
  <dc:description/>
  <dc:language>en-US</dc:language>
  <cp:lastModifiedBy>nuhs</cp:lastModifiedBy>
  <dcterms:modified xsi:type="dcterms:W3CDTF">2007-10-04T19:53:16Z</dcterms:modified>
  <cp:revision>15</cp:revision>
  <dc:subject/>
  <dc:title>Algebra 2A</dc:title>
</cp:coreProperties>
</file>